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4F5E-9622-4E0E-AE3E-79395497C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AC72-2D43-47DB-ABEF-56CB830AE17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3779-F611-4BBB-9DEF-2E9D41AB224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F09F-E989-4548-B793-75AC069322A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2F9F-3854-4DB1-BA32-3AD0256A663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B9A2-018A-42C0-B755-6A83A9E2753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B915-B752-44B3-96D6-ED198362276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AAA0-94FA-46B5-9BB9-9FC3BA7E226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1B3-6B30-43AE-B01E-DE9E4F63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5005-ED6B-4156-A708-60D1B448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DCDF-9B7F-427E-B1DA-6870104E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5F95-5EDC-4AC6-B73F-1ED37032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CEE3-E61E-4A4C-BDA6-9405541F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9128-D15D-4EBC-8ED9-B20045BA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54C8-4F39-41D8-8E82-40C228A9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F9EC-551D-42DF-B9A0-46B35EA5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2915-3814-4A7D-A8EF-A5CFC918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9BE4-1D42-46AB-889D-BEED6957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275E-8887-435D-B20A-1C7B95B0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265F-F81A-4C4E-9CF6-D93C7C26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3BD0-9E7B-45C1-863D-D0F9F9BD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E58C-A615-498F-9512-7728AE62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F022-5A2E-4681-8D25-A4FB50A5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A58C-6846-4132-AC77-335BBDD9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5031-3D7E-4E57-9A3F-3A3301C2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C41A-8DF9-4B71-91C1-14F62CD2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A8B2-6635-4F25-BEA8-4E4F93C0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381-C507-404B-9C6F-E513AC92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633-C63B-4B10-8ED1-1EBB1F58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76DD-36B4-41CD-96D1-BA6482D3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09E-2B93-4F91-937C-001425A9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52F-26FC-459B-BBC3-E6A71D5D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4097-B574-442C-B170-24426C2BFC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3068-F89A-4749-AB10-15EA0C1F9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F05F-86BB-4E9D-BC3C-A21A3C9ED9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A1DF-20BD-46FD-A4FA-805CECD77A2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r.wikipedia.org/wiki/Slika:Flag_of_Bosnia_and_Herzegovina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k-map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000000"/>
                </a:solidFill>
                <a:latin typeface="Calibri"/>
              </a:rPr>
              <a:t>Bosnia and Herzegov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4" descr="Zastava Bosne i Hercegov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2000160"/>
            <a:ext cx="5572080" cy="31593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465F-BF5E-455E-999F-214A46376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D2E1-3333-4577-885C-493985AA21B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igures</a:t>
            </a:r>
            <a:br>
              <a:rPr sz="1100"/>
            </a:br>
            <a:br>
              <a:rPr sz="1100"/>
            </a:b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(in mio KM)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Source: Banking Agencies of FBiH and 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14240" y="1714680"/>
          <a:ext cx="7858440" cy="3857400"/>
        </p:xfrm>
        <a:graphic>
          <a:graphicData uri="http://schemas.openxmlformats.org/drawingml/2006/table">
            <a:tbl>
              <a:tblPr/>
              <a:tblGrid>
                <a:gridCol w="642960"/>
                <a:gridCol w="1857600"/>
                <a:gridCol w="1285920"/>
                <a:gridCol w="1285560"/>
                <a:gridCol w="1214640"/>
                <a:gridCol w="857160"/>
                <a:gridCol w="714600"/>
              </a:tblGrid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1.12.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6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9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.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a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7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2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37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o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4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capi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75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expendi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t 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F Stand-by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nna initiative 6+3 (mother banks to keep exposure with B&amp;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 protection legislation –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high expectation from banking sec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able results of first stress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PL increased, but still acceptable (2,8% Q2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of income with increased interest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– reduced and more 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42AF-1C6C-484E-91A7-F577C329074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esent challang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ounded in 2004, fully indepe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irst Association on stat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l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self funded by member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ll registered banks in full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rganized troug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Board of Dire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xecutive Secret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9 Commissions for different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OUR MISSION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improve and develope close cooperation among th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member bank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establish partnership with stat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institutions, supervisors and legislator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Public relations and media communica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Edu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cati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o  cooperate with similar institutions in the country and abr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E805-4FE9-47F9-B5F2-523F18C4BDD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 Association of Bosnia and Herzegovina</a:t>
            </a:r>
            <a:br>
              <a:rPr sz="25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ofile</a:t>
            </a:r>
            <a:br>
              <a:rPr sz="25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fully dedicated to the spirit of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membership with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support and know-how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of information and expertise in legislation, good banking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2DFB-6875-4C61-90CE-EDA9CB7F8CD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s for your conf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E53E-4EC4-484B-B602-CC84A9BFC3E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24_05_2006_clip_image002"/>
          <p:cNvPicPr/>
          <p:nvPr/>
        </p:nvPicPr>
        <p:blipFill>
          <a:blip r:embed="rId1"/>
          <a:stretch/>
        </p:blipFill>
        <p:spPr>
          <a:xfrm>
            <a:off x="2928960" y="4214880"/>
            <a:ext cx="29718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70c0"/>
                </a:solidFill>
                <a:latin typeface="Calibri"/>
              </a:rPr>
              <a:t>UBBiH   </a:t>
            </a:r>
            <a:r>
              <a:rPr b="1" lang="en-US" sz="11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ŽENJE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GA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УДРУЖЕЊЕ БАНАКА БОСНE И ХЕРЦЕГОВИН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ANKS ASSOCIATION OF BOSNIA AND HERZEGOVINA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Branilaca Sarajeva 20/III, 71000 Sarajevo, Bosna i Hercegovina, Tel: (387 33) 714 630, Fax: (387 33) 714 631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www.ubbih.ba</a:t>
            </a:r>
            <a:br>
              <a:rPr sz="2400"/>
            </a:br>
            <a:br>
              <a:rPr sz="2400"/>
            </a:br>
            <a:br>
              <a:rPr sz="1600"/>
            </a:br>
            <a:br>
              <a:rPr sz="16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ECONOMY AND BANKING SECTOR  IN  BOSNIA AND HERZEGOVINA 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r. Dino Osmanbegović, Presid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240" y="5143320"/>
            <a:ext cx="69152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Rectangle 4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AC40-A398-4923-88E0-D3F9FA78594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43160" y="5929200"/>
            <a:ext cx="4071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.  B&amp;H in bri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Macroeconomic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jor Ris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Banking 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gur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sent Challeng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6754-206D-4453-9A2D-EC9932A8755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5652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hr-HR" sz="1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br>
              <a:rPr sz="29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: 3,8 mio (est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: Saraje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51.197 km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cy (€1 = KM1.955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 stat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n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entities+1 distr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C3FC-3B03-4986-A923-AE87BD95B0F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ap of Bosnia and Herzegov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928800"/>
            <a:ext cx="5473440" cy="482436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5"/>
          <p:cNvSpPr/>
          <p:nvPr/>
        </p:nvSpPr>
        <p:spPr>
          <a:xfrm>
            <a:off x="3124080" y="6356520"/>
            <a:ext cx="416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 Bank of B&amp;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urrency Board Arran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andatory  Reser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ing Super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 banking agencies (still separate but coordinat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latively conservative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ministration for indirect taxation (VAT and custo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ntralized collection with entity level distribu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rporate income, personal) on entity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E4C8-E67C-4DA2-9886-BB74ADD9FD5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I  B&amp;H in brief</a:t>
            </a:r>
            <a:br>
              <a:rPr sz="1400"/>
            </a:b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Key  Macroeconomic Data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bs-BA" sz="1200" spc="-1" strike="noStrike">
                <a:solidFill>
                  <a:srgbClr val="000000"/>
                </a:solidFill>
                <a:latin typeface="Calibri"/>
              </a:rPr>
              <a:t>Data Source: Thomson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</a:rPr>
              <a:t>Reuter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6000840"/>
            <a:ext cx="4906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928800"/>
          <a:ext cx="8072640" cy="5475240"/>
        </p:xfrm>
        <a:graphic>
          <a:graphicData uri="http://schemas.openxmlformats.org/drawingml/2006/table">
            <a:tbl>
              <a:tblPr/>
              <a:tblGrid>
                <a:gridCol w="2639880"/>
                <a:gridCol w="981360"/>
                <a:gridCol w="981000"/>
                <a:gridCol w="1131840"/>
                <a:gridCol w="1149480"/>
                <a:gridCol w="1189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9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10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minal GDP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 GDP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usehold consumption (real, 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dustrial output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umer prices (avg.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employment rate  (avg,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neral budge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urrent Accoun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 debt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fficial FX reserves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2F7D-0719-427F-8908-35742A56C09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2357280" y="6492960"/>
            <a:ext cx="41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&amp;H in br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jor Macroeconomic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DP growth-present negative with forecasted very low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dget deficit-still over IMF Stand-by Agrm.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Current Account Deficit-despite of significant reduction of both export and im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portfolio volume-reduced for 2%, compared to 27% growth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FX risk and controlled inflation, due to the Currency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9368-0ED4-42E3-B262-2B817B7A69B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857160"/>
            <a:ext cx="8429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100" spc="-1" strike="noStrike">
                <a:solidFill>
                  <a:srgbClr val="000000"/>
                </a:solidFill>
                <a:latin typeface="Calibri"/>
              </a:rPr>
              <a:t>Source: Central Bank B&amp;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E9A3-7147-4CBE-8EC8-0D030D5CB8D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5840" y="2000160"/>
          <a:ext cx="8358120" cy="3071880"/>
        </p:xfrm>
        <a:graphic>
          <a:graphicData uri="http://schemas.openxmlformats.org/drawingml/2006/table">
            <a:tbl>
              <a:tblPr/>
              <a:tblGrid>
                <a:gridCol w="2431800"/>
                <a:gridCol w="739800"/>
                <a:gridCol w="741600"/>
                <a:gridCol w="741240"/>
                <a:gridCol w="739800"/>
                <a:gridCol w="741240"/>
                <a:gridCol w="741600"/>
                <a:gridCol w="739800"/>
                <a:gridCol w="741240"/>
              </a:tblGrid>
              <a:tr h="285120">
                <a:tc rowSpan="2"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</a:tr>
              <a:tr h="319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ment fu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sing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rance and reinsurance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rocredit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Footer Placeholder 5"/>
          <p:cNvSpPr/>
          <p:nvPr/>
        </p:nvSpPr>
        <p:spPr>
          <a:xfrm>
            <a:off x="3000240" y="628668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% of Financial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1 Registered Ba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deration BiH, 19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ublic of Srpska 10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Banks under Administ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0% foreign ow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75% of total assets with 4 key play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% of GDP penet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evant share of retail loan portfol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capital adequacy ratio (CAR) – over 1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 profitabili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2BB1-E42E-4AAB-BCDE-056ADD455EF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58:07Z</dcterms:created>
  <dc:creator>samir</dc:creator>
  <dc:description/>
  <dc:language>en-US</dc:language>
  <cp:lastModifiedBy>samir</cp:lastModifiedBy>
  <dcterms:modified xsi:type="dcterms:W3CDTF">2009-12-03T13:34:02Z</dcterms:modified>
  <cp:revision>32</cp:revision>
  <dc:subject/>
  <dc:title>Bosnia and Herzegovina </dc:title>
</cp:coreProperties>
</file>